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png" ContentType="image/png"/>
  <Override PartName="/ppt/media/image32.jpeg" ContentType="image/jpeg"/>
  <Override PartName="/ppt/media/image5.jpeg" ContentType="image/jpeg"/>
  <Override PartName="/ppt/media/image38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2272-DD73-4301-BAD7-0D2788760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14EA-0223-4ADC-96A0-CF8C20860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3F34-CBDA-4AF5-80C4-BD613674B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B486-9097-41E8-B219-7685886C5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A0B7-1C8B-4415-B1FC-B741C4CD2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937B-406D-4FC9-981E-0E5677CCE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5D77-20E5-4093-89F1-4B33F80F6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A23A-11D5-407B-9765-64CF708A9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B5FE-6C7D-4759-93A2-1D1330C4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FAFB-069C-42C3-8AA2-8F7E4709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D69C-429F-4DB0-A0CA-B5424418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CF0C-8027-4669-992B-CE9E7537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24273-1762-4247-A2EF-6FB30264C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356000" y="4797360"/>
            <a:ext cx="273204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6 и 7 язва</a:t>
            </a:r>
            <a:endParaRPr b="1" i="1" lang="en-US" sz="60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68360" y="1125360"/>
            <a:ext cx="4464000" cy="29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Армагедон</a:t>
            </a:r>
            <a:endParaRPr b="0" i="1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6473880" y="1311120"/>
            <a:ext cx="191448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1" strike="noStrike">
                <a:ln w="0">
                  <a:noFill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5 язва</a:t>
            </a:r>
            <a:endParaRPr b="1" i="1" lang="en-US" sz="6600" spc="1" strike="noStrike">
              <a:ln w="0">
                <a:noFill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425680" y="4751280"/>
            <a:ext cx="4667400" cy="148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Тъмнина</a:t>
            </a:r>
            <a:endParaRPr b="1" i="1" lang="en-US" sz="96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>
    <p:dissolv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2557440" y="798480"/>
            <a:ext cx="174312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Езекил 43:2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24000" y="2409840"/>
            <a:ext cx="3914640" cy="21715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Тогава видях, че слават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а Израилевия Бог идеш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 източния път; гласът 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Му беше като глас н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много води и светът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ияеше от славата Му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2549520" y="784080"/>
            <a:ext cx="175248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Матей 24:27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95280" y="3060720"/>
            <a:ext cx="50767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Защото както светкавица излиз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 изток и се вижда до запад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така ще бъде пришествиет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а Човешкия Син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2549520" y="784080"/>
            <a:ext cx="175248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Матей 24:30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95280" y="3060720"/>
            <a:ext cx="4476600" cy="253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Тогава ще се яви на небет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намението на Човешкия Син;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 тогава ще заличат всичк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емни племена като видят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Човешкия Син, идващ н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ебесните облаци със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ила и голяма слава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5303880" y="3467160"/>
            <a:ext cx="3371760" cy="3182760"/>
            <a:chOff x="5303880" y="3467160"/>
            <a:chExt cx="3371760" cy="3182760"/>
          </a:xfrm>
        </p:grpSpPr>
        <p:sp>
          <p:nvSpPr>
            <p:cNvPr id="89" name=""/>
            <p:cNvSpPr txBox="1"/>
            <p:nvPr/>
          </p:nvSpPr>
          <p:spPr>
            <a:xfrm>
              <a:off x="5303880" y="4221000"/>
              <a:ext cx="3371760" cy="242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Monotype Corsiva"/>
                </a:rPr>
                <a:t>авилон </a:t>
              </a:r>
              <a:endPara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Monotype Corsiva"/>
                <a:ea typeface="Monotype Corsiv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Monotype Corsiva"/>
                <a:ea typeface="Monotype Corsiv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5"/>
                    <a:srcRect/>
                    <a:stretch/>
                  </a:blipFill>
                  <a:latin typeface="Monotype Corsiva"/>
                </a:rPr>
                <a:t>539 г. пр. Хр.</a:t>
              </a:r>
              <a:endPara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Monotype Corsiva"/>
                <a:ea typeface="Monotype Corsiva"/>
              </a:endParaRPr>
            </a:p>
          </p:txBody>
        </p:sp>
        <p:sp>
          <p:nvSpPr>
            <p:cNvPr id="90" name=""/>
            <p:cNvSpPr txBox="1"/>
            <p:nvPr/>
          </p:nvSpPr>
          <p:spPr>
            <a:xfrm>
              <a:off x="5369040" y="3467160"/>
              <a:ext cx="571320" cy="111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2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Monotype Corsiva"/>
                </a:rPr>
                <a:t>В</a:t>
              </a:r>
              <a:endParaRPr b="1" i="1" lang="en-US" sz="7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Monotype Corsiva"/>
                <a:ea typeface="Monotype Corsiva"/>
              </a:endParaRPr>
            </a:p>
          </p:txBody>
        </p:sp>
      </p:grpSp>
    </p:spTree>
  </p:cSld>
  <p:transition>
    <p:dissolv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92" name=""/>
          <p:cNvSpPr txBox="1"/>
          <p:nvPr/>
        </p:nvSpPr>
        <p:spPr>
          <a:xfrm>
            <a:off x="1000080" y="260280"/>
            <a:ext cx="2419560" cy="92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- Змеят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880920" y="2924280"/>
            <a:ext cx="258156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- Звярът</a:t>
            </a:r>
            <a:endParaRPr b="0" i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187280" y="5229360"/>
            <a:ext cx="4915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- Лъжепророкът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260280"/>
            <a:ext cx="2663640" cy="2087640"/>
          </a:xfrm>
          <a:prstGeom prst="rect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788000" y="2133720"/>
            <a:ext cx="2663640" cy="2087280"/>
          </a:xfrm>
          <a:prstGeom prst="rect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27640" y="4076640"/>
            <a:ext cx="2664000" cy="2087640"/>
          </a:xfrm>
          <a:prstGeom prst="rect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1763640" y="1432080"/>
            <a:ext cx="261000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ркровение 19:20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403280" y="2205000"/>
            <a:ext cx="3384720" cy="1944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И звярът бе уловен, 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 него и лъжепророкът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който бе извършил пред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его знаменията, с коит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змами онези, които бях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1763640" y="1432080"/>
            <a:ext cx="261000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ркровение 19:20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32000" y="2205000"/>
            <a:ext cx="3867120" cy="21718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риели белега на звяра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които се поклониха н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еговия образ, те двамат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бяха хвърлени живи в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гненото езеро, коет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гори с жупел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900000" y="1484280"/>
            <a:ext cx="3133800" cy="123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Жабите</a:t>
            </a:r>
            <a:endParaRPr b="1" i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>
    <p:dissolv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1604880" y="333360"/>
            <a:ext cx="593424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Царете на цялата Вселена</a:t>
            </a:r>
            <a:endParaRPr b="1" i="1" lang="en-US" sz="4400" spc="1" strike="noStrike">
              <a:ln w="255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>
    <p:dissolve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65360"/>
            <a:ext cx="4427640" cy="42926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66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68360" y="5183280"/>
            <a:ext cx="3295440" cy="148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Язвите</a:t>
            </a:r>
            <a:endParaRPr b="1" i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5435640" y="5157720"/>
            <a:ext cx="34862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Армагедон</a:t>
            </a:r>
            <a:endParaRPr b="1" i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>
    <p:dissolve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1763640" y="1432080"/>
            <a:ext cx="157176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сая 14:13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289160" y="2060640"/>
            <a:ext cx="4219560" cy="28954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А ти казваше в сърцето си: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Ще възляза на небесата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ще възвися престола с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ад Божийте звезди и щ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една на планината н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ъбраните богове към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ай - крайните стран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а север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4924440" y="981000"/>
            <a:ext cx="3895560" cy="25336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Скоро, твърде скоро щ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тане последната голям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битка между доброт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 злото. Земята ще бъд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олесражението - сценат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а последната борба 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крайната победа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61800" y="333360"/>
            <a:ext cx="1862280" cy="2422440"/>
            <a:chOff x="361800" y="333360"/>
            <a:chExt cx="1862280" cy="2422440"/>
          </a:xfrm>
        </p:grpSpPr>
        <p:sp>
          <p:nvSpPr>
            <p:cNvPr id="116" name=""/>
            <p:cNvSpPr txBox="1"/>
            <p:nvPr/>
          </p:nvSpPr>
          <p:spPr>
            <a:xfrm>
              <a:off x="900000" y="907920"/>
              <a:ext cx="1324080" cy="184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0" spc="1" strike="noStrike">
                  <a:ln w="9360">
                    <a:solidFill>
                      <a:srgbClr val="ffff99"/>
                    </a:solidFill>
                    <a:miter/>
                  </a:ln>
                  <a:solidFill>
                    <a:srgbClr val="ffff99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Monotype Corsiva"/>
                </a:rPr>
                <a:t>лън</a:t>
              </a:r>
              <a:endParaRPr b="0" i="1" lang="en-US" sz="60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0" spc="1" strike="noStrike">
                  <a:ln w="9360">
                    <a:solidFill>
                      <a:srgbClr val="ffff99"/>
                    </a:solidFill>
                    <a:miter/>
                  </a:ln>
                  <a:solidFill>
                    <a:srgbClr val="ffff99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Monotype Corsiva"/>
                </a:rPr>
                <a:t> </a:t>
              </a:r>
              <a:r>
                <a:rPr b="0" i="1" lang="en-US" sz="6000" spc="1" strike="noStrike">
                  <a:ln w="9360">
                    <a:solidFill>
                      <a:srgbClr val="ffff99"/>
                    </a:solidFill>
                    <a:miter/>
                  </a:ln>
                  <a:solidFill>
                    <a:srgbClr val="ffff99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Monotype Corsiva"/>
                </a:rPr>
                <a:t>айт</a:t>
              </a:r>
              <a:endParaRPr b="0" i="1" lang="en-US" sz="60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  <p:sp>
          <p:nvSpPr>
            <p:cNvPr id="117" name=""/>
            <p:cNvSpPr txBox="1"/>
            <p:nvPr/>
          </p:nvSpPr>
          <p:spPr>
            <a:xfrm>
              <a:off x="361800" y="333360"/>
              <a:ext cx="571680" cy="111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2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Monotype Corsiva"/>
                </a:rPr>
                <a:t>Е</a:t>
              </a:r>
              <a:endParaRPr b="0" i="1" lang="en-US" sz="7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  <p:sp>
          <p:nvSpPr>
            <p:cNvPr id="118" name=""/>
            <p:cNvSpPr txBox="1"/>
            <p:nvPr/>
          </p:nvSpPr>
          <p:spPr>
            <a:xfrm>
              <a:off x="684360" y="1628640"/>
              <a:ext cx="637920" cy="111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2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Monotype Corsiva"/>
                </a:rPr>
                <a:t>У</a:t>
              </a:r>
              <a:endParaRPr b="0" i="1" lang="en-US" sz="7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</p:grpSp>
      <p:sp>
        <p:nvSpPr>
          <p:cNvPr id="119" name=""/>
          <p:cNvSpPr txBox="1"/>
          <p:nvPr/>
        </p:nvSpPr>
        <p:spPr>
          <a:xfrm>
            <a:off x="5867280" y="5516640"/>
            <a:ext cx="295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Review and Herald</a:t>
            </a:r>
            <a:endParaRPr b="1" i="1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13.05.1902 г.</a:t>
            </a:r>
            <a:endParaRPr b="1" i="1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>
    <p:dissolve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1979640" y="870120"/>
            <a:ext cx="200988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Елън Уайт:</a:t>
            </a:r>
            <a:endParaRPr b="1" i="1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9280" y="6237360"/>
            <a:ext cx="3724200" cy="43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Свидетелства том 6</a:t>
            </a:r>
            <a:endParaRPr b="1" i="1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417680" y="2336760"/>
            <a:ext cx="4162320" cy="21718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Армагедонското сражени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коро ще стане. Този върху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Чиито одежди е написан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Цар на царете и Господ н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господарите, скоро щ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оведе небесните армии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156360" y="3070080"/>
            <a:ext cx="2736720" cy="2664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07932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258920" y="1106640"/>
            <a:ext cx="106668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7 язва</a:t>
            </a:r>
            <a:endParaRPr b="1" i="1" lang="en-US" sz="1800" spc="1" strike="noStrike">
              <a:ln w="0">
                <a:noFill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627280" y="836640"/>
            <a:ext cx="24004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16:17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36840" y="2421000"/>
            <a:ext cx="5019480" cy="14475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И седмият ангел изля чашата с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във въздуха; и от храма излез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илен глас от престола и каза: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бъдна се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156360" y="3070080"/>
            <a:ext cx="2736720" cy="2664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07932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258920" y="1106640"/>
            <a:ext cx="106668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7 язва</a:t>
            </a:r>
            <a:endParaRPr b="1" i="1" lang="en-US" sz="1800" spc="1" strike="noStrike">
              <a:ln w="0">
                <a:noFill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627280" y="836640"/>
            <a:ext cx="24004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16:18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536840" y="2421000"/>
            <a:ext cx="4438440" cy="21715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И произлязоха светкавици 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гласове , и гърмове , и стан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илен трус, небивал откакт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ъществуват човеци на 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емята, такъв трус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толкова силен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971640" y="1150920"/>
            <a:ext cx="2790720" cy="148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0">
                  <a:noFill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7 язва</a:t>
            </a:r>
            <a:endParaRPr b="1" i="1" lang="en-US" sz="9600" spc="1" strike="noStrike">
              <a:ln w="0">
                <a:noFill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>
    <p:dissolve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2627280" y="836640"/>
            <a:ext cx="24004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11:19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4000" y="2421000"/>
            <a:ext cx="4133880" cy="21715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И Божият храм, който е н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ебето, се отвори, и се видя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в храма ковчегът на завета;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 настанаха светкавици 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гласове, гръмове и 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еметръс и силен град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156360" y="3070080"/>
            <a:ext cx="2736720" cy="2664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07932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258920" y="1106640"/>
            <a:ext cx="106668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7 язва</a:t>
            </a:r>
            <a:endParaRPr b="1" i="1" lang="en-US" sz="1800" spc="1" strike="noStrike">
              <a:ln w="0">
                <a:noFill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627280" y="836640"/>
            <a:ext cx="24004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16:19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536840" y="2421000"/>
            <a:ext cx="4133880" cy="25336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И великят град се раздел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а три части и градовете н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ародите паднаха; и Бог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и спомни за великия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Вавилон, да му дад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чашата с виното от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яростния Си гняв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156360" y="3070080"/>
            <a:ext cx="2736720" cy="2664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07932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258920" y="1106640"/>
            <a:ext cx="106668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6 язва</a:t>
            </a:r>
            <a:endParaRPr b="1" i="1" lang="en-US" sz="1800" spc="1" strike="noStrike">
              <a:ln w="0">
                <a:noFill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627280" y="836640"/>
            <a:ext cx="24004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16:12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536840" y="2421000"/>
            <a:ext cx="4619520" cy="1809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Шестия ангел изля чашата с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върху голямата река Ефрат; 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ресъхна водата и, за да се 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риготви  пътят на царете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които идват от изток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156360" y="3070080"/>
            <a:ext cx="2736720" cy="2664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07932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58920" y="1106640"/>
            <a:ext cx="106668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7 язва</a:t>
            </a:r>
            <a:endParaRPr b="1" i="1" lang="en-US" sz="1800" spc="1" strike="noStrike">
              <a:ln w="0">
                <a:noFill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627280" y="836640"/>
            <a:ext cx="24004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16:20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536840" y="2921040"/>
            <a:ext cx="3952800" cy="7239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И всеки остров побегна 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ланини не се намериха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156360" y="3070080"/>
            <a:ext cx="2736720" cy="2664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07932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258920" y="1106640"/>
            <a:ext cx="106668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7 язва</a:t>
            </a:r>
            <a:endParaRPr b="1" i="1" lang="en-US" sz="1800" spc="1" strike="noStrike">
              <a:ln w="0">
                <a:noFill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627280" y="836640"/>
            <a:ext cx="24004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16:21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536840" y="2421000"/>
            <a:ext cx="4857480" cy="21715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И едър град , тежък около един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талант, падаше от небето върху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човеците и човеците похулих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Бога поради напастта на града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ащото тази напаст беш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твърде голяма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4427640" y="2565360"/>
            <a:ext cx="402912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Катаклизмите</a:t>
            </a:r>
            <a:endParaRPr b="1" i="1" lang="en-US" sz="5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>
    <p:dissolve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2268360" y="836640"/>
            <a:ext cx="156240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Лука 21:26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68360" y="2276640"/>
            <a:ext cx="3591000" cy="21715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Човеците ще примират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 страх и от очакван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а онова, което щ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остигне света, защот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ебесните сили щ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е разклатят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-5724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1" name=""/>
          <p:cNvGrpSpPr/>
          <p:nvPr/>
        </p:nvGrpSpPr>
        <p:grpSpPr>
          <a:xfrm>
            <a:off x="700200" y="2022480"/>
            <a:ext cx="2576520" cy="2571840"/>
            <a:chOff x="700200" y="2022480"/>
            <a:chExt cx="2576520" cy="2571840"/>
          </a:xfrm>
        </p:grpSpPr>
        <p:sp>
          <p:nvSpPr>
            <p:cNvPr id="162" name=""/>
            <p:cNvSpPr txBox="1"/>
            <p:nvPr/>
          </p:nvSpPr>
          <p:spPr>
            <a:xfrm>
              <a:off x="1019160" y="2565360"/>
              <a:ext cx="2257560" cy="202896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Monotype Corsiva"/>
                </a:rPr>
                <a:t>рад тежък</a:t>
              </a:r>
              <a:endParaRPr b="0" i="1" lang="en-US" sz="4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Monotype Corsiva"/>
                </a:rPr>
                <a:t>около</a:t>
              </a:r>
              <a:endParaRPr b="0" i="1" lang="en-US" sz="4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Monotype Corsiva"/>
                </a:rPr>
                <a:t>талант</a:t>
              </a:r>
              <a:endParaRPr b="0" i="1" lang="en-US" sz="4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  <p:sp>
          <p:nvSpPr>
            <p:cNvPr id="163" name=""/>
            <p:cNvSpPr txBox="1"/>
            <p:nvPr/>
          </p:nvSpPr>
          <p:spPr>
            <a:xfrm>
              <a:off x="700200" y="2022480"/>
              <a:ext cx="476280" cy="1038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6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Monotype Corsiva"/>
                </a:rPr>
                <a:t>Г</a:t>
              </a:r>
              <a:endParaRPr b="1" i="1" lang="en-US" sz="6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</p:grpSp>
    </p:spTree>
  </p:cSld>
  <p:transition>
    <p:dissolve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2050920" y="2276640"/>
            <a:ext cx="3922920" cy="2943000"/>
          </a:xfrm>
          <a:prstGeom prst="rect">
            <a:avLst/>
          </a:prstGeom>
          <a:ln w="25560">
            <a:solidFill>
              <a:srgbClr val="ffff66"/>
            </a:solidFill>
            <a:miter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4824360" y="476280"/>
            <a:ext cx="3851280" cy="28893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1332000" y="981000"/>
            <a:ext cx="32004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Доброто</a:t>
            </a:r>
            <a:endParaRPr b="0" i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227640" y="4005360"/>
            <a:ext cx="2286000" cy="56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Злото</a:t>
            </a:r>
            <a:endParaRPr b="0" i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395960" y="2708280"/>
            <a:ext cx="2047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срещу</a:t>
            </a:r>
            <a:endParaRPr b="0" i="1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70" name=""/>
          <p:cNvSpPr/>
          <p:nvPr/>
        </p:nvSpPr>
        <p:spPr>
          <a:xfrm>
            <a:off x="4788000" y="428760"/>
            <a:ext cx="0" cy="1847880"/>
          </a:xfrm>
          <a:prstGeom prst="line">
            <a:avLst/>
          </a:prstGeom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88000" y="438120"/>
            <a:ext cx="3887640" cy="0"/>
          </a:xfrm>
          <a:prstGeom prst="line">
            <a:avLst/>
          </a:prstGeom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5978520" y="3357360"/>
            <a:ext cx="2697120" cy="14040"/>
          </a:xfrm>
          <a:prstGeom prst="line">
            <a:avLst/>
          </a:prstGeom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675640" y="419040"/>
            <a:ext cx="0" cy="2952720"/>
          </a:xfrm>
          <a:prstGeom prst="line">
            <a:avLst/>
          </a:prstGeom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716360" y="6035760"/>
            <a:ext cx="345600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Армагедон</a:t>
            </a:r>
            <a:endParaRPr b="0" i="1" lang="en-US" sz="6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>
    <p:dissolve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 txBox="1"/>
          <p:nvPr/>
        </p:nvSpPr>
        <p:spPr>
          <a:xfrm>
            <a:off x="2340000" y="836640"/>
            <a:ext cx="240012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16:15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90600" y="2421000"/>
            <a:ext cx="3533760" cy="1809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( Ето, ида като крадец.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Блажен онзи, който бд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 пази дрехите си, з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а не ходи гол и да н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гледат срамотите му. )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0" name=""/>
          <p:cNvGrpSpPr/>
          <p:nvPr/>
        </p:nvGrpSpPr>
        <p:grpSpPr>
          <a:xfrm>
            <a:off x="4216320" y="112680"/>
            <a:ext cx="3668400" cy="1444680"/>
            <a:chOff x="4216320" y="112680"/>
            <a:chExt cx="3668400" cy="1444680"/>
          </a:xfrm>
        </p:grpSpPr>
        <p:sp>
          <p:nvSpPr>
            <p:cNvPr id="181" name=""/>
            <p:cNvSpPr txBox="1"/>
            <p:nvPr/>
          </p:nvSpPr>
          <p:spPr>
            <a:xfrm>
              <a:off x="4557240" y="338040"/>
              <a:ext cx="3327480" cy="1219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Monotype Corsiva"/>
                </a:rPr>
                <a:t>лудницата седяща</a:t>
              </a:r>
              <a:endParaRPr b="0" i="1" lang="en-US" sz="4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Monotype Corsiva"/>
                </a:rPr>
                <a:t>на червен звяр</a:t>
              </a:r>
              <a:endParaRPr b="0" i="1" lang="en-US" sz="4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  <p:sp>
          <p:nvSpPr>
            <p:cNvPr id="182" name=""/>
            <p:cNvSpPr txBox="1"/>
            <p:nvPr/>
          </p:nvSpPr>
          <p:spPr>
            <a:xfrm>
              <a:off x="4216320" y="112680"/>
              <a:ext cx="346680" cy="652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Monotype Corsiva"/>
                </a:rPr>
                <a:t>Б</a:t>
              </a:r>
              <a:endParaRPr b="1" i="1" lang="en-US" sz="4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</p:grpSp>
      <p:sp>
        <p:nvSpPr>
          <p:cNvPr id="183" name=""/>
          <p:cNvSpPr txBox="1"/>
          <p:nvPr/>
        </p:nvSpPr>
        <p:spPr>
          <a:xfrm>
            <a:off x="7885080" y="6021360"/>
            <a:ext cx="11048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23.01.</a:t>
            </a:r>
            <a:endParaRPr b="0" i="1" lang="en-US" sz="4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>
    <p:dissolve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156360" y="3070080"/>
            <a:ext cx="2736720" cy="2664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07932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258920" y="1106640"/>
            <a:ext cx="106668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6 язва</a:t>
            </a:r>
            <a:endParaRPr b="1" i="1" lang="en-US" sz="1800" spc="1" strike="noStrike">
              <a:ln w="0">
                <a:noFill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627280" y="836640"/>
            <a:ext cx="24004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16:13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536840" y="2421000"/>
            <a:ext cx="5734080" cy="14475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И видях да излизат от устата на змея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 от устата на звяра, и от устат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а лъжепророка три нечист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уха, подобни на жаби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1258920" y="1106640"/>
            <a:ext cx="106668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6 язва</a:t>
            </a:r>
            <a:endParaRPr b="1" i="1" lang="en-US" sz="1800" spc="1" strike="noStrike">
              <a:ln w="0">
                <a:noFill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627280" y="836640"/>
            <a:ext cx="24004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16:14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536840" y="2421000"/>
            <a:ext cx="4829040" cy="21715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Защото те са духове на бесове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които, като вършат знамения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иват при царете на цялат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вселена, да ги събират н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война във великия ден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а всемогъщия Бог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1" name=""/>
          <p:cNvSpPr/>
          <p:nvPr/>
        </p:nvSpPr>
        <p:spPr>
          <a:xfrm>
            <a:off x="6156360" y="3068640"/>
            <a:ext cx="2808360" cy="2808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121440" y="2997360"/>
            <a:ext cx="2914560" cy="29527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258920" y="1106640"/>
            <a:ext cx="106668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6 язва</a:t>
            </a:r>
            <a:endParaRPr b="1" i="1" lang="en-US" sz="1800" spc="1" strike="noStrike">
              <a:ln w="0">
                <a:noFill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627280" y="836640"/>
            <a:ext cx="24004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16:15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536840" y="2421000"/>
            <a:ext cx="4752720" cy="14475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( Ето, ида като крадец. Блажен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нзи, който бди и пази дрехит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и, за да не ходи гол и да н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гледат срамотите му. )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156360" y="3070080"/>
            <a:ext cx="2736720" cy="2664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07932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258920" y="1106640"/>
            <a:ext cx="106668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6 язва</a:t>
            </a:r>
            <a:endParaRPr b="1" i="1" lang="en-US" sz="1800" spc="1" strike="noStrike">
              <a:ln w="0">
                <a:noFill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627280" y="836640"/>
            <a:ext cx="24004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16:16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536840" y="2421000"/>
            <a:ext cx="4914720" cy="7239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И ги събра на мястото, което н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еврейски се нарича Армагедон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3614760" y="333360"/>
            <a:ext cx="268596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Вавилон</a:t>
            </a:r>
            <a:endParaRPr b="1" i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>
    <p:dissolv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3:17:32Z</dcterms:created>
  <dc:creator>The Mind</dc:creator>
  <dc:description/>
  <dc:language>en-US</dc:language>
  <cp:lastModifiedBy>The Mind</cp:lastModifiedBy>
  <dcterms:modified xsi:type="dcterms:W3CDTF">2005-01-16T12:05:52Z</dcterms:modified>
  <cp:revision>15</cp:revision>
  <dc:subject/>
  <dc:title>Slide 1</dc:title>
</cp:coreProperties>
</file>